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A666-80F3-4C7A-828B-3BB91F8D3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5AA4-D345-43BC-9CCA-B6E268229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BD1E-D372-41BA-B71E-6504C5627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06CA-AD6E-4C7F-83A2-6E159089D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5D379-9BED-4141-A071-7C5F9B281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5DBB8-39E2-42E5-95B8-0021001B6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45A6B-D995-4E7C-99FD-4994C43F4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0A555-E596-4AC9-A2E1-48A8A744A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ADCF9-C4BD-4AA1-A536-3F7163902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4067F-62B4-4007-9118-4BB9E3C6E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69E1A-DF56-4428-BFEB-CC3572B07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494D-243B-41E4-B350-AA1A2CC11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771FC-D9D0-440F-93FF-3A9C62923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34B1E-4636-4E6C-A7CC-73F18B7AC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8400A-C01B-4DF1-ABA5-282129E3A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45AA5-E777-40B4-B296-350994D87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70C05-0884-44B8-A3BF-B3C9AB2ED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1B38-2FBD-46DD-AFAC-049F4BC20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F926-5BF4-4136-858E-29203C102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3590-9E38-46AE-9F15-8FF51D7AC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6BCB-F908-481C-BC22-83E60B11A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E987-2BA0-42F3-B36D-72D6B86A4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70FF-A3DC-4DEE-9636-E22DB7216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E13B-7B29-4762-8367-2B79B6D29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ccff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ccecff"/>
                  </a:gs>
                  <a:gs pos="100000">
                    <a:srgbClr val="cc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ccff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ccecff"/>
                  </a:gs>
                  <a:gs pos="100000">
                    <a:srgbClr val="cc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ccff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ccecff"/>
                  </a:gs>
                  <a:gs pos="100000">
                    <a:srgbClr val="cc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c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99"/>
                    </a:gs>
                    <a:gs pos="100000">
                      <a:srgbClr val="cc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99"/>
                    </a:gs>
                    <a:gs pos="100000">
                      <a:srgbClr val="ffcc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cccc"/>
                    </a:gs>
                    <a:gs pos="100000">
                      <a:srgbClr val="ffff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cc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cce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f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f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f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cce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f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cce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66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cccc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41236-2AD3-4DDD-B7D9-521F22632CAF}" type="slidenum"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ccff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ccecff"/>
                  </a:gs>
                  <a:gs pos="100000">
                    <a:srgbClr val="cc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ccffff"/>
                      </a:gs>
                      <a:gs pos="100000">
                        <a:srgbClr val="ffffff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ccffff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cccc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ccec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fcc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ccec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fcc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ccec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ff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fcc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ff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cce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f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f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cce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cce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66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87854-3E93-4646-AB81-4CE5DAFD54D6}" type="slidenum"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66"/>
                </a:solidFill>
                <a:latin typeface="Arial Black"/>
              </a:rPr>
              <a:t>Application Questions #1 and 2</a:t>
            </a: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Brett Sutow, Katie Halbruner, Sam Barton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66"/>
                </a:solidFill>
                <a:latin typeface="Arial Black"/>
              </a:rPr>
              <a:t>Question #1</a:t>
            </a: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0" y="1600200"/>
          <a:ext cx="9372600" cy="3630600"/>
        </p:xfrm>
        <a:graphic>
          <a:graphicData uri="http://schemas.openxmlformats.org/drawingml/2006/table">
            <a:tbl>
              <a:tblPr/>
              <a:tblGrid>
                <a:gridCol w="1341360"/>
                <a:gridCol w="1336680"/>
                <a:gridCol w="1339920"/>
                <a:gridCol w="1336680"/>
                <a:gridCol w="1339920"/>
                <a:gridCol w="1336680"/>
                <a:gridCol w="1341360"/>
              </a:tblGrid>
              <a:tr h="94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H=2.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.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.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.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Li=1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Be=1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B=2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C=2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N=3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O=3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F=4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Na=.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Mg=1.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Al=1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Si=1.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P=2.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S=2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Cl=3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ioni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Nonpol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Nonpol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Polar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Pol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Pol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Pol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66"/>
                </a:solidFill>
                <a:latin typeface="Arial Black"/>
              </a:rPr>
              <a:t>Question #1 Continued.</a:t>
            </a: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685800" y="1219320"/>
          <a:ext cx="7772400" cy="422568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(H+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(OH-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(PH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Acid, Base, Neutr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0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0-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Aci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0-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0-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B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0-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0-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B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0-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0-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B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0-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0-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Aci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0-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0-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Neutr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66"/>
                </a:solidFill>
                <a:latin typeface="Arial Black"/>
              </a:rPr>
              <a:t>Question #1 Continued</a:t>
            </a: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cids pick up hydroxide (OH-) and leave hydrogen (H+) behind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cc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Bases pick up hydrogen (H+) and leave hydroxide (OH-) behind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66"/>
                </a:solidFill>
                <a:latin typeface="Arial Black"/>
              </a:rPr>
              <a:t>Question #2</a:t>
            </a: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H3 is polar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cc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O2 non polar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cc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H3 completely dissociates in H2O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cc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O2 partially dissociates in H2O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-228600" y="2714760"/>
            <a:ext cx="5181480" cy="414324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4724280" y="4191120"/>
            <a:ext cx="4191120" cy="24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2T14:02:27Z</dcterms:created>
  <dc:creator>xpstudent</dc:creator>
  <dc:description/>
  <dc:language>en-US</dc:language>
  <cp:lastModifiedBy>xpstudent</cp:lastModifiedBy>
  <dcterms:modified xsi:type="dcterms:W3CDTF">2010-09-23T14:26:39Z</dcterms:modified>
  <cp:revision>3</cp:revision>
  <dc:subject/>
  <dc:title>Questions #1 and 2</dc:title>
</cp:coreProperties>
</file>